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AE56-BEC2-4EDE-BC75-F305BD7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AA62-507E-4852-AD9E-5244F40B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BDE6-1B76-4E3C-91DD-45C076A6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29B4-1170-4CF0-8C36-F1D536F9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91B-D8EB-4AAA-8E52-9047FD01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8AD-7043-4D94-8632-12AE97BC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D432-C0B4-49BF-A55A-2A8953C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FB8-5FDD-4AFF-9722-BE712ADD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8DC6-7B53-48E2-80AC-B9E898D0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D90-6491-4A10-BB62-FD552F10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BA8-DA0B-4A4F-A5F2-72BC95E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BF9E-C2DF-4E49-9E70-EDA3A727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F799-890A-4B6A-BFEC-054BB1D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FCB9-3096-4D72-9062-81932E0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AC2-36E8-43CC-BF80-1405AC7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20E4-55EB-4EA3-BACD-A0B8B5DB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8EF-814D-4D1F-A4CF-7133AFD7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4F65-7059-49DE-9547-BA54696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EDF1-9D71-45ED-85C0-597072C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CC70-C1E7-47A0-B030-3FB40F2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59E1-DA62-4A64-BA35-2F94490D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97A3-DBF4-4C9D-8008-E6F660C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18C8-D047-4C4A-BC9A-6716F3E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F5F1-B9FB-4E92-B45D-C1233E0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ED4-ADFE-455D-9D77-2E2D78C2B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611-9266-425F-B333-B9A05BFFC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un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od, swamp, delu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inguis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ll apart, differenti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hard to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istinguish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ween the tw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audib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apable of being hear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r screams for help wer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audibl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her neighbo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90920" y="4114800"/>
            <a:ext cx="3047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ou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period of dry weather, lack of r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seems like there is 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rough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very summ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mish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rving, to be extremely hung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issing hikers wer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mishe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they were finally fou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8360" y="1957320"/>
            <a:ext cx="3038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cabulary Exercise-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one sentence using 5 of the vocabulary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the right w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ph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cused Freewr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m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x-ray 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nic he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cabulary-Unit 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make up a sentence, if there isn’t one already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e, take part in a contest, fight or strugg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243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ud noise, upro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couldn’t hear what you were saying because the jet plane that was passing made suc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ul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eal, disclose, make kn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shouldn’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ivulg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your friend’s secr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2428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bsequent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ter, afterw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ver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 across, over, or through, cro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886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6:53:27Z</dcterms:created>
  <dc:creator>Angie</dc:creator>
  <dc:description/>
  <dc:language>en-US</dc:language>
  <cp:lastModifiedBy>Angie</cp:lastModifiedBy>
  <dcterms:modified xsi:type="dcterms:W3CDTF">2009-02-09T07:21:39Z</dcterms:modified>
  <cp:revision>2</cp:revision>
  <dc:subject/>
  <dc:title>DOL</dc:title>
</cp:coreProperties>
</file>